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75E33-9D15-46D8-926F-7909D90DF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48682-444C-41A5-8A71-4B99D7315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388D1-451F-4378-8417-1A8DB94D1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128EF-6D2D-41F1-9148-4C88293A8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2CDCE-51AC-4C7B-BB8D-6B6EEF7C0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136E9-A5BE-442B-8561-DAFB3629B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8D7D4-7814-4159-8A65-B997F477F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DB3FA-74B6-40F7-8DF3-7B91D2B1F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0DD34-6598-4503-B06A-F1DA86F33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FEFCE-0E67-4306-9EE9-60D0AF2E4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5FD7C-C3D9-4318-8954-221C826F4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F84BD-9556-442E-B590-57853E6A7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33567-F00F-44D8-960A-B70587BB50B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21T00:59:46Z</dcterms:created>
  <dc:creator>Administrator</dc:creator>
  <dc:description/>
  <dc:language>en-US</dc:language>
  <cp:lastModifiedBy>Administrator</cp:lastModifiedBy>
  <dcterms:modified xsi:type="dcterms:W3CDTF">2015-04-21T01:00:09Z</dcterms:modified>
  <cp:revision>1</cp:revision>
  <dc:subject/>
  <dc:title/>
</cp:coreProperties>
</file>